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8B21-4C0F-4A60-B449-FBB4BF2A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968-17B2-4457-9450-EF38D152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717-51A0-4AC9-AC3E-3BBD777F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AD4-815C-4270-8D9F-90AB0A22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A6BA-DFD8-4870-9827-AF8053C2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131E-C5F0-478D-86D8-8DB49961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8EF4-13AA-4635-A2C5-B0BC7FDE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F66B-9E52-4387-B83B-F7BE8C0B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4A80-F43C-44D3-A88B-43206B4F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29D5-51BA-4CAC-ADD4-45069F1D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084C-1933-4789-A6B7-8E06A1C7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6F5-AB7A-4CC9-8D95-5697CF6D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8C18-7FB4-4331-86B6-3ACFDADE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F4A1-ADC6-40C5-ADEC-72C78432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371A-A029-4008-ABDC-5DA26953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7B10-138C-45C4-8BD8-A2D55902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EB4F-F730-40FA-B0B0-6666317C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5E74-DD9D-426D-822E-366F3409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C68-0D62-4707-8D19-1489EB2E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27C-C85A-4DEF-97FC-73B14BB1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BA4-F24A-49E1-8D54-D6B9D8A9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02C-6055-400D-9752-CC40178B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530-9171-4CDB-BC9F-6F3F1A40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9CAF-DBEC-4232-ABBA-A0A65B90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2A95-E0D5-44AA-A8C5-C70F2A224F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0E04-2CEB-4ABE-AF02-D2173FFEF73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lemag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7010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loman dies and 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Charlemagne) seizes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imposing fig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d armies against enemies surrounding the kingd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rough conquests, Charlemagne spreads 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united 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rolingian Empire included 2/3 of Italy, all of France, small part of Spain, and all of German Saxon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came most powerful king in western Euro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 800 Charlemagne crushes unruly mob that had attacked Pope Le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gratitude, _____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storic because pope claimed political right to confer the title “______________” on a European k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event signaled the joining of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_____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th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______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 th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________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Picture 4" descr="charlemagne"/>
          <p:cNvPicPr/>
          <p:nvPr/>
        </p:nvPicPr>
        <p:blipFill>
          <a:blip r:embed="rId1"/>
          <a:stretch/>
        </p:blipFill>
        <p:spPr>
          <a:xfrm>
            <a:off x="7086600" y="1600200"/>
            <a:ext cx="189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ff"/>
                </a:solidFill>
                <a:latin typeface="Tahoma"/>
              </a:rPr>
              <a:t>Charlemagne’s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t out royal agents, making sure counts governed their counties just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ularly visited every part of his kingd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pt close watch on his Carolingian estates; source of wealth and pow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c145"/>
                </a:solidFill>
                <a:latin typeface="Tahoma"/>
              </a:rPr>
              <a:t>Culture Rev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of his greatest accomplishments was the ____________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rounded himself with English, German, Italian, and Spanish schola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ened a 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dered monasteries to open schools to train monks and prie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ed their libraries; made handwritten copies of Latin book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a9b7"/>
                </a:solidFill>
                <a:latin typeface="Tahoma"/>
              </a:rPr>
              <a:t>Charlemagne’s Heirs are Weak Rul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 before he dies, crowns only son, Louis the Pious as emper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uis is a devoutly religious man, but ineffective le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uis leaves three 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th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les the Ba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uis the Germ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s fight for control of the emp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vil war ends in 84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vides Charlemagne’s empire into _______________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reaty, Carolingian kings lose power and central authority breaks d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s to a new system of governing and landholding:    </a:t>
            </a:r>
            <a:r>
              <a:rPr b="1" i="1" lang="en-US" sz="3200" spc="-1" strike="noStrike">
                <a:solidFill>
                  <a:srgbClr val="9966ff"/>
                </a:solidFill>
                <a:latin typeface="Tahoma"/>
              </a:rPr>
              <a:t>_________________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24:29Z</dcterms:created>
  <dc:creator>admin</dc:creator>
  <dc:description/>
  <dc:language>en-US</dc:language>
  <cp:lastModifiedBy>admin</cp:lastModifiedBy>
  <dcterms:modified xsi:type="dcterms:W3CDTF">2011-03-18T12:54:56Z</dcterms:modified>
  <cp:revision>8</cp:revision>
  <dc:subject/>
  <dc:title>The Rise of the Empire of the Franks</dc:title>
</cp:coreProperties>
</file>